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41C5F-9CAE-49A1-A851-251555EC1C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25ECC-1935-43E9-89B3-D2AB547DE5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FECBE-1266-4393-BAA3-CA2D764F9E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7F346-59A2-4D2A-A5DD-493E2F4CD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08AB2-9CA4-4FF1-90B4-46914ABC9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41423-1FDA-4F8C-91BE-1626F78426D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0B1B3-C72B-4C8B-8393-FEA744324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E7010-9BDE-4E15-811F-A66A83CAF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DEF8C-C8AE-432B-A1D0-8C9AA9F79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707CA-82C7-479A-B430-8081D4EE2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94C28-5201-4698-AFA8-DC201F992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EDA18-C00B-47E9-BBE0-7667C361E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7B370-8227-453D-A45F-FA6503732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05ECA-755B-4CC2-916B-4FED1B682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21F2DC92-F4EA-4B04-885A-46F5BE80575E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6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0.0.127.in-addr.arpa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91216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0.0.127.in-addr.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             PTR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7B16A-E675-48B0-A09A-0A096D91144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ssembling the fil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ere's my directory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[~/DNS/apricot2003/recursive] edlewis% l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0.127.in-addr.arpa.   localhost.              named.roo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irectory name and file names will be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I create a named.conf file in the same directory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2B7B3-9FAC-40B9-BE11-6E513AD982F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d.conf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937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irectory "/Users/edlewis/DNS/apricot2003/recursive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pid-file "/Users/edlewis/DNS/apricot2003/recursive/n.pid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recursion yes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hint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named.root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localhost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localhost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0.0.127.in-addr.arpa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0.0.127.in-addr.arpa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34E98-6E19-4B6D-B9D5-FA376B4E4B6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unn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the directo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udo named -c 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01A82-1201-4C5D-AB01-6ED4B26AFAA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9198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to show it is al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g @127.0.0.1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Courier New"/>
              </a:rPr>
              <a:t>www.arin.ne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 &lt;&lt;&gt;&gt; DiG 9.2.2rc1 &lt;&lt;&gt;&gt; @127.0.0.1 www.arin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lobal options:  printcmd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ot answer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-&gt;&gt;HEADER&lt;&lt;- opcode: QUERY, status: NOERROR, id: 1658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flags: qr rd ra; QUERY: 1, ANSWER: 2, AUTHORITY: 10, ADDITIONAL: 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STION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www.arin.net.                  IN      A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NSWER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7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6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UTHORITY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arin.net.               10800   IN      NS      arrowroot.arin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(and so on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ry time: 3066 msec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SERVER: 127.0.0.1#53(127.0.0.1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WHEN: Wed Feb 19 11:07:05 200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MSG SIZE  rcvd: 25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DBB98-E2EB-4161-9C47-AAA2569BD51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gratulations - Your First Server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's just the beginning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616E2-16BB-4D91-9E20-B46EEF79F58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i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ot server 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lhos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0.0.127.in-addr.arpa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B1E82-139C-46B2-BC75-B8A2C391A63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Used to lookup data by applic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eeds to know how to reach top of D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should stop some queri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, 127.0.0.1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i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root.hint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0.0.127.in-addr.arpa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We'll do named.conf las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B9B4B-A81B-4509-9758-B83AB9C3235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oot Server Li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ist of the 13 root serve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re to get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tp rs.internic.n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onymous log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d doma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et one of these files (they are [nearly] the sam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b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roo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07B10-8B86-44EB-B5B9-F9C6E26F619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t looks lik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holds the information on root name servers needed to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initialize cache of Internet domain name server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(e.g. reference this file in the "cache  .  &lt;file&gt;"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configuration file of BIND domain name servers)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is made available by InterNIC 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under anonymous FTP a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file                /domain/named.cach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on server           FTP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last update:    Nov 5, 2002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related version of root zone:   200211050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formerly NS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IN  NS    A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A.ROOT-SERVERS.NET.      3600000      A     198.41.0.4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...............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housed in Japan, operated by WID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    NS    M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M.ROOT-SERVERS.NET.      3600000      A     202.12.27.3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End of Fil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372F6-851A-4B53-88A2-D667DD26D8E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You Do To This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ill include it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real networks, don't change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for learning, we will change i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7C9B1-FC0A-404B-BE50-D524551D1A6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opback name in operating syste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eans 127.0.0.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for this shouldn't use recur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 we will configure a file to define the localhost.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".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60AD6-30A6-4CFB-8A9F-EC77C700D2B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9426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A 127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A1C9E-D4A5-4D8D-B1C3-7AE5ED32057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for 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nce we want "localhost -&gt; 127.0.0.1" we want to have "127.0.0.1 -&gt; 127.0.0.1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need a zone called 0.0.127.in-addr.arp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E0DAB-B777-408E-B42D-24763B16E7C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bill manning</dc:creator>
  <dc:description/>
  <dc:language>en-US</dc:language>
  <cp:lastModifiedBy>Marmaduke Wildebeeste</cp:lastModifiedBy>
  <dcterms:modified xsi:type="dcterms:W3CDTF">2003-06-01T20:47:44Z</dcterms:modified>
  <cp:revision>46</cp:revision>
  <dc:subject/>
  <dc:title>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