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BE006-21FB-4DEC-85F8-EADC28BB9F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63CAB-6B26-4192-B1C3-94C579D286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45C16-E33D-42BD-9C40-4EF2DF596A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21793-3328-46EB-97E8-9C3703AA2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F5E06-7F75-48D8-ACC3-D222F04A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A003B-1ECA-423D-9555-076BD12CCF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C639B-5AAA-47EC-A82B-3045E0A9E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321DE-8925-4CF9-A407-DC2BB6CDB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B5318-2349-4A27-8048-0D8CDD298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63E5B-AC3C-4CEA-82A1-052DC316F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DEB60-AD8E-4AAA-9C18-8251FC737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B00D2-F0CB-4A4A-AF5E-4A102FA46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41671-C224-47E0-A104-484988EB0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4BE31-E1AA-435A-9E38-26BD77B0E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8F497213-C3BE-40B8-8EA6-D8C427F5B49E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6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0.0.127.in-addr.arpa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91216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0.0.127.in-addr.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             PTR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6397D-783A-4501-A9E9-501340F64E4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ssembling the fil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ere's my directory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[~/DNS/apricot2003/recursive] edlewis% l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0.127.in-addr.arpa.   localhost.              named.roo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irectory name and file names will be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I create a named.conf file in the same directory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79E1F-2C83-4D54-BB6A-31326737EB7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d.conf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937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irectory "/Users/edlewis/DNS/apricot2003/recursive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pid-file "/Users/edlewis/DNS/apricot2003/recursive/n.pid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recursion yes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hint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named.root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localhost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localhost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0.0.127.in-addr.arpa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0.0.127.in-addr.arpa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242E6-F29A-4B9C-BDBE-2B64A73826B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unn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the directo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udo named -c 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E20DE-736B-4ED4-84F1-DCED60D2FC5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9198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to show it is al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g @127.0.0.1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Courier New"/>
              </a:rPr>
              <a:t>www.arin.ne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 &lt;&lt;&gt;&gt; DiG 9.2.2rc1 &lt;&lt;&gt;&gt; @127.0.0.1 www.arin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lobal options:  printcmd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ot answer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-&gt;&gt;HEADER&lt;&lt;- opcode: QUERY, status: NOERROR, id: 1658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flags: qr rd ra; QUERY: 1, ANSWER: 2, AUTHORITY: 10, ADDITIONAL: 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STION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www.arin.net.                  IN      A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NSWER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7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6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UTHORITY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arin.net.               10800   IN      NS      arrowroot.arin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(and so on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ry time: 3066 msec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SERVER: 127.0.0.1#53(127.0.0.1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WHEN: Wed Feb 19 11:07:05 200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MSG SIZE  rcvd: 25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03007-9C97-4858-88E4-080E0958D73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gratulations - Your First Server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's just the beginning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8399A-0629-478C-AA02-3E9304D3E53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i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ot server 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lhos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0.0.127.in-addr.arpa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2AD5D-15A8-4B62-BE13-C2BB8AE4A9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Used to lookup data by applic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eeds to know how to reach top of D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should stop some queri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, 127.0.0.1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i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root.hint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0.0.127.in-addr.arpa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We'll do named.conf las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CD2F0-6B92-419B-BC04-353C6D71C5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oot Server Li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ist of the 13 root serve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re to get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tp rs.internic.n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onymous log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d doma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et one of these files (they are [nearly] the sam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b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roo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6CD11-A0D7-4FC2-AA48-001ED28F5F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t looks lik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holds the information on root name servers needed to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initialize cache of Internet domain name server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(e.g. reference this file in the "cache  .  &lt;file&gt;"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configuration file of BIND domain name servers)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is made available by InterNIC 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under anonymous FTP a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file                /domain/named.cach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on server           FTP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last update:    Nov 5, 2002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related version of root zone:   200211050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formerly NS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IN  NS    A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A.ROOT-SERVERS.NET.      3600000      A     198.41.0.4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...............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housed in Japan, operated by WID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    NS    M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M.ROOT-SERVERS.NET.      3600000      A     202.12.27.3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End of Fil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B7710-7814-40D9-880F-C1F44CF269C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You Do To This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ill include it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real networks, don't change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for learning, we will change i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BE6A7-87A8-4780-9592-3018694530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opback name in operating syste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eans 127.0.0.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for this shouldn't use recur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 we will configure a file to define the localhost.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".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1B042-6D0F-44DA-8392-88BDE0332D9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9426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A 127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AFE58-E8D8-4B42-AD5E-6B5B59B0594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for 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nce we want "localhost -&gt; 127.0.0.1" we want to have "127.0.0.1 -&gt; 127.0.0.1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need a zone called 0.0.127.in-addr.arp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D0CC3-7673-4C9D-B73E-8DF78385397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bill manning</dc:creator>
  <dc:description/>
  <dc:language>en-US</dc:language>
  <cp:lastModifiedBy>Marmaduke Wildebeeste</cp:lastModifiedBy>
  <dcterms:modified xsi:type="dcterms:W3CDTF">2003-06-01T20:47:44Z</dcterms:modified>
  <cp:revision>46</cp:revision>
  <dc:subject/>
  <dc:title>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