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C62-4CE0-4E59-B921-77B8F469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414-635D-41BE-B8D3-A670E0E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AAA-C4FC-4854-B174-6ACF723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E92-1595-454C-B9DA-2FB57DC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0EE-3190-466F-9434-BFB81E1D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FAB7-DC07-41F8-881C-373B97E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A333-5E01-49B5-85AC-B2D9630D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747-AA14-4EE1-8EBC-5104716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8996-14CD-4AFF-9C29-85F6B164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81D2-7114-4E5C-9383-DE9DB8E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2EE4-D131-44E2-9B85-C74DC17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C20-8AE5-492E-8AA9-DCFCFD30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4AB6-B62C-4A94-A8CC-33D2E538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EB51-4D93-4E79-8E45-853928B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27D8-3FB0-4D9D-9937-C912E18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38D3-9933-490F-A069-1F71647D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BDFB-A62C-4061-B76E-3CCC3ED2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DBF-C33C-4B54-A9F6-2D96404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E86-A65B-4678-B12F-D8140B6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EE1-F268-4439-8791-1974127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DC0-BE82-472F-99BB-344ECCE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9F8-AB36-47E5-A332-E870A93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8FA-D650-4DC0-9A1A-BCA28CA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08F-0745-4883-A254-1DAA9BA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B37-E71A-438D-A509-C9AE681050E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7E8-7882-4CE7-813B-0397F7781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D18-1072-477F-9630-8F6B1600384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23D9-A67F-4FD7-BE29-73CDA29FA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2E7877-361F-4C5B-A87C-331BDF5181F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C9F4-0C58-4798-91A0-FB31C415C0E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AA99-A9A5-4A66-8422-636635B1C656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726AA-04F1-4188-B2AE-CD079DB67B44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152F9-7147-4E47-A052-385F11303C2C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8AF42-E84D-46F4-A41E-BB399566C4E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9CCFA-13C5-4290-9445-8D7ECC5EA0B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FA2C9-61ED-4C79-8AE2-A1C75B96B0A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EBF78-80E2-4322-912F-8B438FA3848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13F6B-49D6-4E4B-B4D3-1E4D409976E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C862F-DF68-4FCA-BE71-38D0A36A262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02A49-6EFB-409E-9A8C-4F37B0DBAED3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441F2-D292-4C2D-A569-F62512AC63C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BEB59-A39E-4758-9732-07A227C4FDC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EA52D-DA45-4B6E-85C4-06D787BF6A5B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33E69-06C1-4838-BC74-570D50B6C39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D842C-EA5D-4CEB-9BE1-88A6E217CF2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31C7C-250E-4005-A72F-353698F70B89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26759-72E6-4F21-9332-A73B55D56E4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E7C41-2B00-4E3A-A476-74C085C172FF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BA57D-A233-484A-80E2-63F57D60C74A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27DAD-9AE9-440B-8AB4-7FD40F8F4B3D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8028E-F592-4AD2-BD06-5A9D2542B6F5}" type="datetime1">
              <a:rPr lang="en-US"/>
              <a:t>07/30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82338-069F-40CE-870B-9E863C0FBB5A}" type="datetime1">
              <a:rPr lang="en-US"/>
              <a:t>07/30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